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02D-2883-4DAB-9878-92176768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89C-7E1A-400E-89DF-4D348674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C17-690D-4434-BCE2-1B10B31B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4AC-5A61-4557-A880-8DEE4965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8BBF-50CB-4655-AEE6-DAF3AE14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FB9F-7063-4D60-9812-EAD1BB3F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5906-43B2-4664-B8D2-AC8D78D7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8D5D-8817-4919-8559-C7D6C914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B0ED-0559-4E38-8E67-05B537B3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CC62-3904-432A-8826-A4C3E68C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8BA7-BAB5-4281-AE26-3E2B79A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85B-B8F8-4A37-8E48-1B32CE32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0E83-32F6-41A5-8EE7-2378BFD1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5492-52ED-47B9-9D90-1BF5751B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C9BE-F6DA-4049-B420-360FBB5E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3C19-DB3D-45CF-A424-EB96077C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4E45-F833-49DF-B905-74DFD16F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F4D-363D-4CD9-B379-46505AFD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9CB-D7D5-4A7C-88F6-7BB2590C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3A9-0287-47F7-A8F3-80AD12D3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96A-BD19-4D4D-89A2-A351850C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7C6-1F1E-4709-9D6F-E48565A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DC0-B28E-4C13-802C-309BB5A7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436-0643-4D1B-95FF-89415E58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3A3-DE28-4AED-B415-269C27444CDD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66E4-4957-4A72-B7EE-12DE7931DF0C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aeaea"/>
                </a:solidFill>
                <a:latin typeface="Tahoma"/>
              </a:rPr>
              <a:t>Heart Par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95360" y="110808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uperior Vena Cava- is a large vein that collects deoxygenated blood from the upper regions of the body and returns it to the right atriu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ight Atrium- chamber that accepts deoxygenated blood from the bod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3/10. Atrioventricular valves- prevents blood from flowing back into the atria from the ventri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ricuspid- on right s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icuspid- on left side (mitra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6680" y="151920"/>
            <a:ext cx="7848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8006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4. Right ventricle- chamber that pumps blood to the lungs via the pulmonary arte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5. Inferior vena cava- a large vein collects deoxygenated blood from the lower parts of the body and deposits it into right atr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6. Pulmonary Semi lunar value – prevents blood from flowing back into the right ventri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Ink 4" descr=""/>
          <p:cNvPicPr/>
          <p:nvPr/>
        </p:nvPicPr>
        <p:blipFill>
          <a:blip r:embed="rId1"/>
          <a:stretch/>
        </p:blipFill>
        <p:spPr>
          <a:xfrm>
            <a:off x="4606920" y="3154320"/>
            <a:ext cx="1697040" cy="909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0800"/>
            <a:ext cx="9144000" cy="68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48006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7. Septum- is muscle that separates heart into the left and right sides- prevents deoxygenated blood from mixing with oxygenated bl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8. Aortic Semi Lunar Valve – prevents backflow of blood into the left ventricle from the aor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9. Left ventricle- pumps oxygenated blood to entire bod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219320" y="0"/>
            <a:ext cx="510516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10. See #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11. Left atrium- receives oxygenated blood from the lungs and pumps it into the left ventri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12. Rt/Lt pulmonary vein- carries oxygenated blood from lungs back to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13. Rt/Lt pulmonary arteries- carries deoxygenated blood from the heart to the lu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4.Aorta-  main artery carrying oxygenated blood to the body- originates at left ventri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* The coronary arteries are on the outside of the heart. They supply the heart with the oxygen and nutrients needed to make it pu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48:00Z</dcterms:created>
  <dc:creator>nbdoe</dc:creator>
  <dc:description/>
  <dc:language>en-US</dc:language>
  <cp:lastModifiedBy>Ward, Jeffrey    (ASD-W)</cp:lastModifiedBy>
  <dcterms:modified xsi:type="dcterms:W3CDTF">2018-04-17T17:00:16Z</dcterms:modified>
  <cp:revision>15</cp:revision>
  <dc:subject/>
  <dc:title>Heart Parts</dc:title>
</cp:coreProperties>
</file>